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785522"/>
        <c:axId val="60658232"/>
      </c:barChart>
      <c:catAx>
        <c:axId val="607855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58232"/>
        <c:crosses val="autoZero"/>
        <c:auto val="1"/>
        <c:lblAlgn val="ctr"/>
        <c:lblOffset val="100"/>
        <c:noMultiLvlLbl val="0"/>
      </c:catAx>
      <c:valAx>
        <c:axId val="606582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855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BBE3-7081-40B8-A706-65C0258E1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31AC-D5B7-4050-98F4-6F3E4566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90EE-7B1B-467D-9C77-109C08650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1A3E-95D5-41A5-A53C-89850D978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4DF1-2C0F-48F5-8652-2C9C491B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6411-D6B6-4607-8D46-6D7F7F8E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5399-8B3B-49D6-950D-D18E9335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E280-C613-4939-8E37-223737F5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C95D-B811-49F3-B9D0-4D80E5F7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F0EC-9645-4E70-A465-1D0FE2E0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3A68-CEB4-4A57-BA4C-C2DB1432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1360-4056-4890-9745-4982D8F5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4B050-30D1-45B9-B48B-8519323024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