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4212"/>
        <c:axId val="13439583"/>
      </c:barChart>
      <c:catAx>
        <c:axId val="34594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9583"/>
        <c:crosses val="autoZero"/>
        <c:auto val="1"/>
        <c:lblAlgn val="ctr"/>
        <c:lblOffset val="100"/>
        <c:noMultiLvlLbl val="0"/>
      </c:catAx>
      <c:valAx>
        <c:axId val="13439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4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0FC-AACF-4CFA-BB47-AB4B79DE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2B7-08D6-4AFE-A857-9B827C9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96C-DF87-416D-9944-D15CC0A1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1D1-54A2-4809-B8E6-9351ECA7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F3E-5ACB-4E32-8A69-598A974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491-3FF2-4E3C-AD83-78AE9A2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F6F-F1DA-4FCC-BC0F-6C24A8E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76D-5F67-4737-AFD1-E6ACEF47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0D5-C37C-4777-B352-53D7632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FCD-B533-4EE2-A46D-4A33ED5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C1B-0FBB-4AAC-AB5F-068A929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204-4816-4826-8AB9-DB6A61F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D204-C01F-4670-B1BE-E63DB4B31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